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2C80-4BE8-413C-BF8F-38A62B2F2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B4F4-6DBF-40D0-A28A-5E71AED7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72A6-AB3F-46BD-88B4-8DE33C296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FD11-0CDD-47DF-B444-E3E6B8DE4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0FEF-187F-485A-860F-00DE4C0E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9BD6-38CC-447C-B590-085489DF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C5A5-2305-422F-9FEE-338A795B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B47D-4E35-4DA7-BE22-258ADD07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D1DE-B855-419D-9FAC-623691F1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C496-41F4-4E99-8012-D9A9A207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505B-93CC-4DD2-A2FA-17B35294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F0C5-FEDB-4588-BDD5-E1410E52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A7C0-958E-492B-A250-6A20DFCA8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4358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Arial"/>
              </a:rPr>
              <a:t>Человеческий голос 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Arial"/>
              </a:rPr>
              <a:t>как музыкальный инструмент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полнила: Нестерова Ю.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У СОШ № 1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ромкость гол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ГРОМКОСТЬ ГОЛОС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убъективное слуховое ощущение интенсивности (силы) звука, образующегося в результате работы голосового аппарата. Профессиональное владение голосом предполагает использование в речи (или пении) множества градаций громкости, большого динамического (громкостного) диапазо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лосовые связки человека, в отличии от оркестровых музыкальных инструментов, при выступлении певца должны делать то, чего ни один струнный музыкальный инструмент делать не способен: изменять длину и натяжение колеблющихся связок одновременно, чтобы изменять частоту колеба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аким образом, голосовой аппарат человека является достаточно сложным музыкальным аппаратом, и аналогов которому до сих пор не создано, при всем этом, замкнут этот сложнейший звуковой инструмент в очень маленькие габариты, что еще раз подчеркивает его сложность и неповторим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лосовой аппарат человека является не только органом выражения своих чувств, эмоций, помощником в становлении в обществе, средством коммуникаций, но и является сложнейшей физической систе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2876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смотря на то, что человеческий голосовой аппарат мал по размерам, он способен производить столь же различные и прекрасные звуки, как и разнообразные музыкальные инструменты. Человеческий голос может порождать такой впечатляющий диапазон звуков благодаря тому, что он полагается на нелинейные эффекты, в которых малый сигнал на входе производит большое воздействие на вых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вук — упругие волны, распространяющиеся в среде и создающие в ней механические колеб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Звуки, которые мы слышим каждый день, очень разнообразны. Любой из нас достаточно отчетливо отличает так называемые музыкальные звуки от шумов. К первым, например, относится пение, звучание натянутых струн музыкальных инструментов, свист. Шумы возникают при взрывах, работе двигателей внутреннего сгорания, шипении змеи, скрипе несмазанных дверных петель и т. д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3D_music_VIOLIN"/>
          <p:cNvPicPr/>
          <p:nvPr/>
        </p:nvPicPr>
        <p:blipFill>
          <a:blip r:embed="rId1"/>
          <a:stretch/>
        </p:blipFill>
        <p:spPr>
          <a:xfrm>
            <a:off x="4859280" y="1484280"/>
            <a:ext cx="3672000" cy="237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Saksofon"/>
          <p:cNvPicPr/>
          <p:nvPr/>
        </p:nvPicPr>
        <p:blipFill>
          <a:blip r:embed="rId2"/>
          <a:stretch/>
        </p:blipFill>
        <p:spPr>
          <a:xfrm>
            <a:off x="4859280" y="3860640"/>
            <a:ext cx="36734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Музыкальные зву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4176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Чистый музыкальный звук можно получить с помощью простого прибора, называемого </a:t>
            </a:r>
            <a:r>
              <a:rPr b="1" i="1" lang="en-US" sz="2500" spc="-1" strike="noStrike" u="sng">
                <a:solidFill>
                  <a:srgbClr val="ffffff"/>
                </a:solidFill>
                <a:uFillTx/>
                <a:latin typeface="Arial"/>
              </a:rPr>
              <a:t>камертоном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. Ударив молоточком по одной из ветвей камертона, мы услышим музыкальный звук. Постепенно звук ослабевает вследствие затухания колебаний ветвей. Звуковая волна возбуждается колеблющимися ветвями камертона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81" descr=""/>
          <p:cNvPicPr/>
          <p:nvPr/>
        </p:nvPicPr>
        <p:blipFill>
          <a:blip r:embed="rId1"/>
          <a:stretch/>
        </p:blipFill>
        <p:spPr>
          <a:xfrm>
            <a:off x="4643280" y="1125360"/>
            <a:ext cx="4032360" cy="26863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82" descr=""/>
          <p:cNvPicPr/>
          <p:nvPr/>
        </p:nvPicPr>
        <p:blipFill>
          <a:blip r:embed="rId2"/>
          <a:stretch/>
        </p:blipFill>
        <p:spPr>
          <a:xfrm>
            <a:off x="4643280" y="4149720"/>
            <a:ext cx="403236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сновные характеристики зв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ромкость звука 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пределяется амплитудой колебаний давления. Чем сильнее удар молоточка по камертону, тем громче звучит камертон. А более сильный удар вызывает колебания большей амплитуды. Можно не сомневаться, что и громкость любого звука определяется амплитудой колебаний в звуковой вол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сота звука -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яется частотой колебаний. Для того чтобы определить, с чем связана определенная высота звука, нужно располагать несколькими камертонами различных размеров. Проводя иглой, прикрепленной к ветви звучащего камертона, вдоль закопченной пластинки, можно заметить, что, чем выше звук, издаваемый камертоном, тем меньше период появляющейся на пластинке синусоиды и, следовательно, тем больше частота колебаний камерт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мбр (фр. timbre) — окраска звука; один из признаков музыкального звука (наряду с высотой, громкостью). По тембрам отличают звуки одинаковой высоты и громкости, но исполненные или на разных инструментах, или на одном инструменте разными способами, штрих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4464000" cy="59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тобы произвести музыкальный звук, любой музыкальный инструмент должен иметь три основных компонента: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источник звук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который совершает колебания в воздухе, чтобы произвести звук определенной частоты, которую мы воспринимаем, как высоту тона, вместе с более высокими частотами обертонов,  что тембр (окраску звука);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один или более резонаторо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которые усиливают основную частоту, увеличивая амплитуду колебаний; и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излучающую поверхность или отверсти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которые передают  звук  в окружающее воздушное пространство и в конце концов который достигает уха слушате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альт"/>
          <p:cNvPicPr/>
          <p:nvPr/>
        </p:nvPicPr>
        <p:blipFill>
          <a:blip r:embed="rId1"/>
          <a:stretch/>
        </p:blipFill>
        <p:spPr>
          <a:xfrm>
            <a:off x="4672080" y="133200"/>
            <a:ext cx="4292640" cy="178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gr_30-2"/>
          <p:cNvPicPr/>
          <p:nvPr/>
        </p:nvPicPr>
        <p:blipFill>
          <a:blip r:embed="rId2"/>
          <a:stretch/>
        </p:blipFill>
        <p:spPr>
          <a:xfrm>
            <a:off x="4676760" y="1933560"/>
            <a:ext cx="4292640" cy="1962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1235390709_truba"/>
          <p:cNvPicPr/>
          <p:nvPr/>
        </p:nvPicPr>
        <p:blipFill>
          <a:blip r:embed="rId3"/>
          <a:stretch/>
        </p:blipFill>
        <p:spPr>
          <a:xfrm>
            <a:off x="4665600" y="3922560"/>
            <a:ext cx="43210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ГОЛОС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4546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лос является важным средством звуковой (аудио-) коммуникации. Биоакустический феномен, состоящий в том, что звуки, образованные активностью голосовых складок несут информацию об индивидуальных особенностях говорящего: его физическом и эмоционально-психологическом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остоян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интеллектуальном и социально - культурном уровне, профессиональной и национальной принадлежности. В коммуникативном плане голос, прежде всего, обеспечивает слышимость речи на большем или меньшем расстоянии; причем, в отличие от взгляда, голос может быть обращен одномоментно ко многим участникам коммуник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42581"/>
          <p:cNvPicPr/>
          <p:nvPr/>
        </p:nvPicPr>
        <p:blipFill>
          <a:blip r:embed="rId1"/>
          <a:stretch/>
        </p:blipFill>
        <p:spPr>
          <a:xfrm>
            <a:off x="5292720" y="333360"/>
            <a:ext cx="3457440" cy="2598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min2_1233155029-27899"/>
          <p:cNvPicPr/>
          <p:nvPr/>
        </p:nvPicPr>
        <p:blipFill>
          <a:blip r:embed="rId2"/>
          <a:stretch/>
        </p:blipFill>
        <p:spPr>
          <a:xfrm>
            <a:off x="5867280" y="2997360"/>
            <a:ext cx="23511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троение голосового аппара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3960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Гортань, являющаяся и органом дыхания, и органом голосообразования, располагается в передней части шеи, ниже подъ­язычной кости, на уровне IV—VI шейных позвонков. Впереди гортани находится поверхностная мышца шеи, сзади — гортанная часть глотки. Спереди и с боков к гортани прилежит щитовидная железа. Гортань при помощи связок и мышц вверху соединена с подъязычной костью, а внизу — с грудиной. При глотании, разговоре, кашле гортань смещается вверх-вниз. Вверху гортань сообщается с глоткой, внизу — переходит в трахе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Голосовые складки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образованы </a:t>
            </a: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голосовыми связками,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покрытыми слизистой оболочкой. Узкое пространство между правой и левой голосовыми складками носит название </a:t>
            </a: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голосовой щели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2" descr=""/>
          <p:cNvPicPr/>
          <p:nvPr/>
        </p:nvPicPr>
        <p:blipFill>
          <a:blip r:embed="rId1"/>
          <a:stretch/>
        </p:blipFill>
        <p:spPr>
          <a:xfrm>
            <a:off x="4286160" y="1052640"/>
            <a:ext cx="4649760" cy="38052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4286160" y="4857840"/>
            <a:ext cx="46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 — желудочек гортани; 7 — голосовая складка; 8 — перстнечерпаловидный сустав; 9 — подголосовая полость; 10 — пластинка перстневидного хряща (частично удалена); 14 — преддверие гортани; 16 — надгортанни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85480" y="285840"/>
            <a:ext cx="40719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 голосообразовании голосовая щель замкнута и голосовые складки напряжены. Щель открывается под давлением воздуха лишь на короткое время. Через нее из дыхательных путей выходит часть воздуха. После этого, под действием аэродинамического эффекта Бернулли и сил упругости, голосовые складки снова смыкаются, а подскладочное давление снова стремится их разомкнуть. Так возникают квазипериодические импульсы воздушного давления, которые воспринимаются как голо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3" descr=""/>
          <p:cNvPicPr/>
          <p:nvPr/>
        </p:nvPicPr>
        <p:blipFill>
          <a:blip r:embed="rId1"/>
          <a:stretch/>
        </p:blipFill>
        <p:spPr>
          <a:xfrm>
            <a:off x="4357800" y="214200"/>
            <a:ext cx="437652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7:37:45Z</dcterms:created>
  <dc:creator>Ивашка</dc:creator>
  <dc:description/>
  <dc:language>en-US</dc:language>
  <cp:lastModifiedBy>Киса</cp:lastModifiedBy>
  <dcterms:modified xsi:type="dcterms:W3CDTF">2010-04-23T14:53:26Z</dcterms:modified>
  <cp:revision>17</cp:revision>
  <dc:subject/>
  <dc:title>Слайд 1</dc:title>
</cp:coreProperties>
</file>